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85672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79280" y="4201560"/>
            <a:ext cx="885672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440" y="170028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79280" y="420156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440" y="420156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285156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73760" y="1700280"/>
            <a:ext cx="285156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68240" y="1700280"/>
            <a:ext cx="285156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79280" y="4201560"/>
            <a:ext cx="285156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73760" y="4201560"/>
            <a:ext cx="285156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68240" y="4201560"/>
            <a:ext cx="285156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79280" y="1700280"/>
            <a:ext cx="885672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85672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432180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440" y="1700280"/>
            <a:ext cx="432180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79280" y="1268280"/>
            <a:ext cx="8856720" cy="20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7440" y="1700280"/>
            <a:ext cx="432180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79280" y="420156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79280" y="1700280"/>
            <a:ext cx="885672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432180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7440" y="170028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17440" y="420156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440" y="170028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79280" y="4201560"/>
            <a:ext cx="885672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85672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79280" y="4201560"/>
            <a:ext cx="885672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440" y="170028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79280" y="420156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17440" y="420156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285156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173760" y="1700280"/>
            <a:ext cx="285156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68240" y="1700280"/>
            <a:ext cx="285156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79280" y="4201560"/>
            <a:ext cx="285156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173760" y="4201560"/>
            <a:ext cx="285156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68240" y="4201560"/>
            <a:ext cx="285156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85672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432180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440" y="1700280"/>
            <a:ext cx="432180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79280" y="1268280"/>
            <a:ext cx="8856720" cy="20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440" y="1700280"/>
            <a:ext cx="432180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79280" y="420156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432180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440" y="170028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440" y="420156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440" y="170028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79280" y="4201560"/>
            <a:ext cx="885672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377200" y="6381720"/>
            <a:ext cx="3096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4b9b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79280" y="1700280"/>
            <a:ext cx="885672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d4b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d4b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d4b9b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d4b9b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79280" y="6608520"/>
            <a:ext cx="2880000" cy="207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IS Metadata Tools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5.03.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2320">
            <a:solidFill>
              <a:srgbClr val="2d4b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22320">
            <a:solidFill>
              <a:srgbClr val="2d4b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5684760" y="142920"/>
            <a:ext cx="2992680" cy="79200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326440" y="6459480"/>
            <a:ext cx="349200" cy="32544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6372360" y="6608880"/>
            <a:ext cx="151128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: </a:t>
            </a:r>
            <a:fld id="{F3A590C2-199C-4339-A0F8-BDF32F5D17C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39640" y="3284640"/>
            <a:ext cx="3051360" cy="24415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11280" y="1197000"/>
            <a:ext cx="3051000" cy="2441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5867280" y="1197000"/>
            <a:ext cx="3051360" cy="24415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5733720"/>
            <a:ext cx="82072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39840"/>
            <a:ext cx="669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Deutscher Wetterdien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2320">
            <a:solidFill>
              <a:srgbClr val="2d4b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684760" y="142920"/>
            <a:ext cx="2992680" cy="792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3059280" y="1773360"/>
            <a:ext cx="3051000" cy="2441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7"/>
          <a:stretch/>
        </p:blipFill>
        <p:spPr>
          <a:xfrm>
            <a:off x="5364000" y="3500280"/>
            <a:ext cx="3051360" cy="24418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d4b9b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2d4b9b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2d4b9b"/>
              </a:buClr>
              <a:buFont typeface="Arial"/>
              <a:buChar char="-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soft.org/xmllint.html" TargetMode="External"/><Relationship Id="rId2" Type="http://schemas.openxmlformats.org/officeDocument/2006/relationships/hyperlink" Target="http://www.inspire-geoportal.eu/INSPIREValidatorClient/validate.do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5949720"/>
            <a:ext cx="82072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WIS – Metadata Tools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68360" y="6288120"/>
            <a:ext cx="820728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kus Heene, DW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markus.heene@dwd.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4b9b"/>
                </a:solidFill>
                <a:latin typeface="Arial"/>
              </a:rPr>
              <a:t>Agenda</a:t>
            </a: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85672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d4b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i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d4b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d4b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F8818D-164C-44D7-8A0A-BEF502E68450}" type="datetime1">
              <a:rPr lang="en-US"/>
              <a:t>07/28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4b9b"/>
                </a:solidFill>
                <a:latin typeface="Arial"/>
              </a:rPr>
              <a:t>Validation</a:t>
            </a: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85672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va Program with Xerces – hands-on s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mllint – Developer Version! – Stable release can’t handle iso19139 </a:t>
            </a:r>
            <a:r>
              <a:rPr b="0" lang="en-US" sz="1600" spc="-1" strike="noStrike" u="sng">
                <a:solidFill>
                  <a:srgbClr val="96a5cd"/>
                </a:solidFill>
                <a:uFillTx/>
                <a:latin typeface="Arial"/>
                <a:hlinkClick r:id="rId1"/>
              </a:rPr>
              <a:t>http://xmlsoft.org/xmllint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PIRE Validator Online – Sometimes not available </a:t>
            </a:r>
            <a:r>
              <a:rPr b="0" lang="en-US" sz="1600" spc="-1" strike="noStrike" u="sng">
                <a:solidFill>
                  <a:srgbClr val="96a5cd"/>
                </a:solidFill>
                <a:uFillTx/>
                <a:latin typeface="Arial"/>
                <a:hlinkClick r:id="rId2"/>
              </a:rPr>
              <a:t>http://www.inspire-geoportal.eu/INSPIREValidatorClient/validate.d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18AE9C-663D-489C-98A7-AAB6ACDC0ACE}" type="datetime1">
              <a:rPr lang="en-US"/>
              <a:t>07/28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4b9b"/>
                </a:solidFill>
                <a:latin typeface="Arial"/>
              </a:rPr>
              <a:t>Metadata Generation and Maintenance</a:t>
            </a: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85672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mplate Approach for Gen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d4b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d4b9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l: XML::LibXML http://search.cpan.org/~shlomif/XML-LibXML-1.94/LibXML.p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d4b9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va: JDOM http://www.jdom.or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d4b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 modific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d4b9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d4b9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d4b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EE1F10-9E77-4F6B-99FC-62B50266FD49}" type="datetime1">
              <a:rPr lang="en-US"/>
              <a:t>07/28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3357360"/>
            <a:ext cx="885672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d4b9b"/>
                </a:solidFill>
                <a:latin typeface="Arial"/>
              </a:rPr>
              <a:t>Q&amp;A</a:t>
            </a:r>
            <a:endParaRPr b="1" lang="en-US" sz="32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7E137D-CA14-4FE1-AC5D-1BCDD4CACBFD}" type="datetime1">
              <a:rPr lang="en-US"/>
              <a:t>07/28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1T09:57:45Z</dcterms:created>
  <dc:creator>Administrator</dc:creator>
  <dc:description/>
  <dc:language>en-US</dc:language>
  <cp:lastModifiedBy>Markus Heene</cp:lastModifiedBy>
  <cp:lastPrinted>2006-12-13T10:14:45Z</cp:lastPrinted>
  <dcterms:modified xsi:type="dcterms:W3CDTF">2012-03-05T16:49:09Z</dcterms:modified>
  <cp:revision>261</cp:revision>
  <dc:subject/>
  <dc:title>Folie 1</dc:title>
</cp:coreProperties>
</file>