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8000" cy="480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038240" y="802800"/>
            <a:ext cx="5022720" cy="37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46080" y="4892400"/>
            <a:ext cx="5207040" cy="4570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704160"/>
            <a:ext cx="3078000" cy="561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4021200" y="9704160"/>
            <a:ext cx="3078000" cy="561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75B1BF7-FEF2-4A96-9385-E6828C89D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0"/>
          <p:cNvSpPr/>
          <p:nvPr/>
        </p:nvSpPr>
        <p:spPr>
          <a:xfrm>
            <a:off x="4019400" y="9704520"/>
            <a:ext cx="305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  <a:tab algn="l" pos="9901080"/>
                <a:tab algn="l" pos="10372680"/>
                <a:tab algn="l" pos="10844280"/>
              </a:tabLst>
            </a:pPr>
            <a:fld id="{67C5EC2F-7BFD-4F5B-AF56-6E2E6463D55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4019400" y="9704520"/>
            <a:ext cx="30639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42840"/>
                <a:tab algn="l" pos="1414440"/>
                <a:tab algn="l" pos="1886040"/>
                <a:tab algn="l" pos="2359080"/>
                <a:tab algn="l" pos="2830680"/>
                <a:tab algn="l" pos="3303720"/>
                <a:tab algn="l" pos="3774960"/>
                <a:tab algn="l" pos="4246560"/>
                <a:tab algn="l" pos="4719600"/>
                <a:tab algn="l" pos="5191200"/>
                <a:tab algn="l" pos="5662440"/>
                <a:tab algn="l" pos="6135840"/>
                <a:tab algn="l" pos="6607080"/>
                <a:tab algn="l" pos="7080120"/>
                <a:tab algn="l" pos="7551720"/>
                <a:tab algn="l" pos="8023320"/>
                <a:tab algn="l" pos="8496360"/>
                <a:tab algn="l" pos="8967960"/>
                <a:tab algn="l" pos="9439200"/>
                <a:tab algn="l" pos="9901080"/>
                <a:tab algn="l" pos="10372680"/>
                <a:tab algn="l" pos="10844280"/>
              </a:tabLst>
            </a:pPr>
            <a:fld id="{99A62C41-237C-452F-B710-06ED3F6F333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038240" y="803160"/>
            <a:ext cx="502272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47520" y="4887720"/>
            <a:ext cx="5190840" cy="45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0"/>
          <p:cNvSpPr/>
          <p:nvPr/>
        </p:nvSpPr>
        <p:spPr>
          <a:xfrm>
            <a:off x="4019400" y="9704520"/>
            <a:ext cx="305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  <a:tab algn="l" pos="9901080"/>
                <a:tab algn="l" pos="10372680"/>
                <a:tab algn="l" pos="10844280"/>
              </a:tabLst>
            </a:pPr>
            <a:fld id="{7FAC5F42-129A-4ECF-8BDD-CB02A9B197B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4019400" y="9704520"/>
            <a:ext cx="30639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42840"/>
                <a:tab algn="l" pos="1414440"/>
                <a:tab algn="l" pos="1886040"/>
                <a:tab algn="l" pos="2359080"/>
                <a:tab algn="l" pos="2830680"/>
                <a:tab algn="l" pos="3303720"/>
                <a:tab algn="l" pos="3774960"/>
                <a:tab algn="l" pos="4246560"/>
                <a:tab algn="l" pos="4719600"/>
                <a:tab algn="l" pos="5191200"/>
                <a:tab algn="l" pos="5662440"/>
                <a:tab algn="l" pos="6135840"/>
                <a:tab algn="l" pos="6607080"/>
                <a:tab algn="l" pos="7080120"/>
                <a:tab algn="l" pos="7551720"/>
                <a:tab algn="l" pos="8023320"/>
                <a:tab algn="l" pos="8496360"/>
                <a:tab algn="l" pos="8967960"/>
                <a:tab algn="l" pos="9439200"/>
                <a:tab algn="l" pos="9901080"/>
                <a:tab algn="l" pos="10372680"/>
                <a:tab algn="l" pos="10844280"/>
              </a:tabLst>
            </a:pPr>
            <a:fld id="{646EB37A-9F77-46FB-AED0-BC2D45FDDAD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28880" y="797040"/>
            <a:ext cx="5022720" cy="3767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47520" y="4887720"/>
            <a:ext cx="5190840" cy="45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38240" y="803160"/>
            <a:ext cx="5022720" cy="37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45720" y="4892400"/>
            <a:ext cx="5203800" cy="46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0"/>
          <p:cNvSpPr/>
          <p:nvPr/>
        </p:nvSpPr>
        <p:spPr>
          <a:xfrm>
            <a:off x="4019400" y="9704520"/>
            <a:ext cx="3054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  <a:tab algn="l" pos="9901080"/>
                <a:tab algn="l" pos="10372680"/>
                <a:tab algn="l" pos="10844280"/>
              </a:tabLst>
            </a:pPr>
            <a:fld id="{491A65C8-0983-449A-9591-56E66E20E48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4019400" y="9704520"/>
            <a:ext cx="30639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69800"/>
                <a:tab algn="l" pos="942840"/>
                <a:tab algn="l" pos="1414440"/>
                <a:tab algn="l" pos="1886040"/>
                <a:tab algn="l" pos="2359080"/>
                <a:tab algn="l" pos="2830680"/>
                <a:tab algn="l" pos="3303720"/>
                <a:tab algn="l" pos="3774960"/>
                <a:tab algn="l" pos="4246560"/>
                <a:tab algn="l" pos="4719600"/>
                <a:tab algn="l" pos="5191200"/>
                <a:tab algn="l" pos="5662440"/>
                <a:tab algn="l" pos="6135840"/>
                <a:tab algn="l" pos="6607080"/>
                <a:tab algn="l" pos="7080120"/>
                <a:tab algn="l" pos="7551720"/>
                <a:tab algn="l" pos="8023320"/>
                <a:tab algn="l" pos="8496360"/>
                <a:tab algn="l" pos="8967960"/>
                <a:tab algn="l" pos="9439200"/>
                <a:tab algn="l" pos="9901080"/>
                <a:tab algn="l" pos="10372680"/>
                <a:tab algn="l" pos="10844280"/>
              </a:tabLst>
            </a:pPr>
            <a:fld id="{DBD26951-83AD-4D61-9BBE-F8D86ED61B4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38240" y="803160"/>
            <a:ext cx="5022720" cy="3767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47520" y="4887720"/>
            <a:ext cx="5190840" cy="45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376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824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376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824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85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376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68240" y="170028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928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376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68240" y="4201560"/>
            <a:ext cx="285156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85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440" y="420156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440" y="1700280"/>
            <a:ext cx="432180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201560"/>
            <a:ext cx="8856720" cy="228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77200" y="6381720"/>
            <a:ext cx="3096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d4b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d4b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d4b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9280" y="6608520"/>
            <a:ext cx="2880000" cy="207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R Metadata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.09.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684760" y="142920"/>
            <a:ext cx="2992680" cy="792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326440" y="6459480"/>
            <a:ext cx="349200" cy="3254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372360" y="6608880"/>
            <a:ext cx="151128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: </a:t>
            </a:r>
            <a:fld id="{881296E9-E3B3-495D-A1CC-05DC2785F8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39840"/>
            <a:ext cx="669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eutscher Wetter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22320">
            <a:solidFill>
              <a:srgbClr val="2d4b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684760" y="142920"/>
            <a:ext cx="2992680" cy="79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2881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us Heene, DW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markus.heene@dwd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2d4b9b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2d4b9b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spire.jrc.ec.europa.eu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lese.org/dds/services/joai_software.jsp" TargetMode="External"/><Relationship Id="rId2" Type="http://schemas.openxmlformats.org/officeDocument/2006/relationships/hyperlink" Target="http://www.oclc.org/research/activities/oaicat/default.htm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nspire-geoportal.eu/InspireEditor/" TargetMode="External"/><Relationship Id="rId2" Type="http://schemas.openxmlformats.org/officeDocument/2006/relationships/hyperlink" Target="http://inspire.jrc.ec.europa.eu/documents/Metadata/INSPIRE_MD_IR_and_ISO_v1_2_20100616.pdf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Black"/>
              </a:rPr>
              <a:t>DAR Metadata</a:t>
            </a:r>
            <a:endParaRPr b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3051000" cy="2441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3068640"/>
            <a:ext cx="3051000" cy="2441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435640" y="2637000"/>
            <a:ext cx="3051000" cy="24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Metadata record types &amp; associated datasets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ilst both datasets are continually changing, both metadata records are ‘quasi-static’; only needing to be changed when the observation regime changes (i.e. a new instrument is deployed or the exact observation location changes) The critical differences between record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n this example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oral extent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lativ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oral extent in any 24-hour period, whils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as a temporal extent from 1954 to (almost) present da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tation authority: authority fo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.wmo.wi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whils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.no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ality control: the dataset described by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ay have undergone additional quality control to validate the observation record for inclusion in a long-term arch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ilst the meeting noted that ther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e significant overlap betwe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one cannot assume that overlap exists. The meeting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cluded that metadata records A and B describe entirely different products!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E193B-1CD1-4D40-90E0-7FB848A6A4FA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DAR Metadata Identifiers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n:x-wmo:m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.wmo.w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.dw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or is “: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n:x-wmo:md:int.wmo.wis::SMAA01EDZ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n:x-wmo:md:int.wmo.wis::FCUK31EG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n:x-wmo:md:cn.gov.cma::NMC.NWP.HCXA05BA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se insensitive check for du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eck uniqueness of a DAR Metadata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md:MD_Metadata/gmd:fileIdent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md:MD_Metadata/gmd:dateSt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4FBB2-43C9-432D-B150-CCBF56543F3C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4b9b"/>
                </a:solidFill>
                <a:latin typeface="Arial"/>
              </a:rPr>
              <a:t>Introduction to DWD DAR metadata approach for GISC – conformance part</a:t>
            </a:r>
            <a:endParaRPr b="1" lang="en-US" sz="18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 19139 con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O con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E conform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ean Commission Directive (</a:t>
            </a:r>
            <a:r>
              <a:rPr b="0" lang="en-US" sz="1200" spc="-1" strike="noStrike" u="sng">
                <a:solidFill>
                  <a:srgbClr val="96a5cd"/>
                </a:solidFill>
                <a:uFillTx/>
                <a:latin typeface="Arial"/>
                <a:hlinkClick r:id="rId1"/>
              </a:rPr>
              <a:t>http://inspire.jrc.ec.europa.e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manding than I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guidelines (paper with 74 pages) (http://inspire.jrc.ec.europa.eu/documents/Metadata/INSPIRE_MD_IR_and_ISO_v1_2_20100616.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metadata by ~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892E2-2EF7-4054-B9FC-A3AB00549574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DWD DAR Metadata generator - architecture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2520" y="328464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724280"/>
            <a:ext cx="1008000" cy="1297080"/>
          </a:xfrm>
          <a:prstGeom prst="can">
            <a:avLst>
              <a:gd name="adj" fmla="val 25000"/>
            </a:avLst>
          </a:prstGeom>
          <a:solidFill>
            <a:srgbClr val="2d4b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6360" y="61135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5800" y="328464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SL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7640" y="1989000"/>
            <a:ext cx="1008000" cy="1295640"/>
          </a:xfrm>
          <a:prstGeom prst="flowChartDocument">
            <a:avLst/>
          </a:prstGeom>
          <a:solidFill>
            <a:srgbClr val="2d4b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04000" y="1916280"/>
            <a:ext cx="1008000" cy="1366560"/>
          </a:xfrm>
          <a:prstGeom prst="flowChartMultidocumen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3068640"/>
            <a:ext cx="863640" cy="934920"/>
          </a:xfrm>
          <a:prstGeom prst="flowChartPredefinedProcess">
            <a:avLst/>
          </a:prstGeom>
          <a:solidFill>
            <a:srgbClr val="2d4b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5" idx="1"/>
          </p:cNvCxnSpPr>
          <p:nvPr/>
        </p:nvCxnSpPr>
        <p:spPr>
          <a:xfrm flipV="1">
            <a:off x="899640" y="4004640"/>
            <a:ext cx="1080" cy="71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900000" y="429264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a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2060640"/>
            <a:ext cx="863640" cy="647640"/>
          </a:xfrm>
          <a:prstGeom prst="flowChartProcess">
            <a:avLst/>
          </a:prstGeom>
          <a:solidFill>
            <a:srgbClr val="2d4b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720" y="27082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2200" y="198900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DataFi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3" idx="1"/>
            <a:endCxn id="130" idx="0"/>
          </p:cNvCxnSpPr>
          <p:nvPr/>
        </p:nvCxnSpPr>
        <p:spPr>
          <a:xfrm flipV="1" rot="10800000">
            <a:off x="899280" y="2383200"/>
            <a:ext cx="936000" cy="68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>
            <a:stCxn id="133" idx="2"/>
            <a:endCxn id="128" idx="1"/>
          </p:cNvCxnSpPr>
          <p:nvPr/>
        </p:nvCxnSpPr>
        <p:spPr>
          <a:xfrm flipH="1" flipV="1" rot="5400000">
            <a:off x="3311280" y="1591920"/>
            <a:ext cx="72000" cy="2161080"/>
          </a:xfrm>
          <a:prstGeom prst="bentConnector4">
            <a:avLst>
              <a:gd name="adj1" fmla="val -319597"/>
              <a:gd name="adj2" fmla="val 600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2771280" y="29973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ad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422100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249228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87640" y="4005360"/>
            <a:ext cx="936720" cy="1079280"/>
          </a:xfrm>
          <a:prstGeom prst="flowChartPredefinedProcess">
            <a:avLst/>
          </a:prstGeom>
          <a:solidFill>
            <a:srgbClr val="2d4b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5423040"/>
            <a:ext cx="104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Fac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3" idx="2"/>
            <a:endCxn id="141" idx="2"/>
          </p:cNvCxnSpPr>
          <p:nvPr/>
        </p:nvCxnSpPr>
        <p:spPr>
          <a:xfrm flipH="1" rot="16200000">
            <a:off x="1672200" y="3301560"/>
            <a:ext cx="2377080" cy="1189800"/>
          </a:xfrm>
          <a:prstGeom prst="bentConnector3">
            <a:avLst>
              <a:gd name="adj1" fmla="val 1096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1835280" y="486900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720" y="4797360"/>
            <a:ext cx="80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22160" y="609300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9139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29" idx="1"/>
            <a:endCxn id="141" idx="3"/>
          </p:cNvCxnSpPr>
          <p:nvPr/>
        </p:nvCxnSpPr>
        <p:spPr>
          <a:xfrm flipV="1" rot="10800000">
            <a:off x="3923640" y="2599920"/>
            <a:ext cx="2880360" cy="1945440"/>
          </a:xfrm>
          <a:prstGeom prst="bentConnector3">
            <a:avLst>
              <a:gd name="adj1" fmla="val 246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3" idx="2"/>
            <a:endCxn id="141" idx="0"/>
          </p:cNvCxnSpPr>
          <p:nvPr/>
        </p:nvCxnSpPr>
        <p:spPr>
          <a:xfrm flipH="1" rot="16200000">
            <a:off x="2211840" y="2761920"/>
            <a:ext cx="1297800" cy="11898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340000" y="350028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2880" y="35146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 XS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52" idx="1"/>
            <a:endCxn id="141" idx="2"/>
          </p:cNvCxnSpPr>
          <p:nvPr/>
        </p:nvCxnSpPr>
        <p:spPr>
          <a:xfrm rot="10800000">
            <a:off x="3455280" y="5083920"/>
            <a:ext cx="2196000" cy="326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4140360" y="544500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5800" y="580536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alidate 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67640" y="4653000"/>
            <a:ext cx="865080" cy="1150920"/>
          </a:xfrm>
          <a:prstGeom prst="flowChartDocumen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41" idx="3"/>
            <a:endCxn id="155" idx="1"/>
          </p:cNvCxnSpPr>
          <p:nvPr/>
        </p:nvCxnSpPr>
        <p:spPr>
          <a:xfrm>
            <a:off x="3924360" y="4544640"/>
            <a:ext cx="3744000" cy="68508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5651640" y="4797360"/>
            <a:ext cx="934920" cy="122400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77080" y="4797360"/>
            <a:ext cx="360360" cy="360360"/>
          </a:xfrm>
          <a:custGeom>
            <a:avLst/>
            <a:gdLst>
              <a:gd name="textAreaLeft" fmla="*/ 82080 w 360360"/>
              <a:gd name="textAreaRight" fmla="*/ 278280 w 3603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34160" y="5300640"/>
            <a:ext cx="90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utpu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69800" y="5877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BC22A-5689-4B12-B22B-EC6442011C33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DAR Metadata exchange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SC to GI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AI-PMH (Open Archives Initiative Protocol for Metadata Harv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Implement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AI </a:t>
            </a:r>
            <a:r>
              <a:rPr b="0" lang="en-US" sz="1200" spc="-1" strike="noStrike" u="sng">
                <a:solidFill>
                  <a:srgbClr val="96a5cd"/>
                </a:solidFill>
                <a:uFillTx/>
                <a:latin typeface="Arial"/>
                <a:hlinkClick r:id="rId1"/>
              </a:rPr>
              <a:t>http://www.dlese.org/dds/services/joai_software.j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d4b9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AICat </a:t>
            </a:r>
            <a:r>
              <a:rPr b="0" lang="en-US" sz="1200" spc="-1" strike="noStrike" u="sng">
                <a:solidFill>
                  <a:srgbClr val="96a5cd"/>
                </a:solidFill>
                <a:uFillTx/>
                <a:latin typeface="Arial"/>
                <a:hlinkClick r:id="rId2"/>
              </a:rPr>
              <a:t>http://www.oclc.org/research/activities/oaicat/defaul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C/DCPCs uploading DAR Metadata to GI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TS: file-naming-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0D653-1FF3-48F7-A6F3-DC0D9ADBC624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Resources and further information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ET-MDI – Final Report http://www.wmo.int/pages/prog/www/WDM/IPET-MDI-I/report/Report_IPETMDI_I_20100503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ET-MDI Guidance Documentation, Draft http://www.wmo.int/pages/prog/wis/2010/metadata/version_1-2/WMO%20Core%20Metadata%20Profile%20v1-2%20Guidance%20Documentation%20v0.1%20(DRAFT)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gle Group: wmo-ipetmdi@googlegroups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O Schema Location: http://wis.wmo.int/2011/schemata/iso19139_2007/schema/gmd/gmd.x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E Editor - </a:t>
            </a:r>
            <a:r>
              <a:rPr b="0" lang="en-US" sz="1600" spc="-1" strike="noStrike" u="sng">
                <a:solidFill>
                  <a:srgbClr val="96a5cd"/>
                </a:solidFill>
                <a:uFillTx/>
                <a:latin typeface="Arial"/>
                <a:hlinkClick r:id="rId1"/>
              </a:rPr>
              <a:t>http://www.inspire-geoportal.eu/InspireEdito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E Validator - http://www.inspire-geoportal.eu/INSPIREValidatorClient/validate.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IRE Metadata Implementing Rules - </a:t>
            </a:r>
            <a:r>
              <a:rPr b="0" lang="en-US" sz="1600" spc="-1" strike="noStrike" u="sng">
                <a:solidFill>
                  <a:srgbClr val="96a5cd"/>
                </a:solidFill>
                <a:uFillTx/>
                <a:latin typeface="Arial"/>
                <a:hlinkClick r:id="rId2"/>
              </a:rPr>
              <a:t>http://inspire.jrc.ec.europa.eu/documents/Metadata/INSPIRE_MD_IR_and_ISO_v1_2_20100616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FB9C1-CBD7-466D-9EDA-359430B4E7C2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D9CA5-77E0-4E92-93F3-D924CA8147CA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adata record types &amp; associated data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 Metadata Identif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WD DAR Metadata generator –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AE7BB-4C9E-45CD-A047-B240ED1578E9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Notes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’m not member of IPET-M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presentation is an introduction to DAR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is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 Metadata are XM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ell-formed XML 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e against a schema (ISO 1913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d4b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19139 defines an XML representation for ISO 19115 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presentation shows DWDs approach to produce DAR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B33BB-B837-4908-943A-054076A61E22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46040" y="1413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d4b9b"/>
                </a:solidFill>
                <a:latin typeface="Arial"/>
                <a:ea typeface="Microsoft YaHei"/>
              </a:rPr>
              <a:t>Supermarket without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270480" cy="4176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"/>
          <p:cNvSpPr/>
          <p:nvPr/>
        </p:nvSpPr>
        <p:spPr>
          <a:xfrm>
            <a:off x="395280" y="6237360"/>
            <a:ext cx="82296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800" spc="-1" strike="noStrike">
                <a:solidFill>
                  <a:srgbClr val="2d4b9b"/>
                </a:solidFill>
                <a:latin typeface="Arial"/>
                <a:ea typeface="Microsoft YaHei"/>
              </a:rPr>
              <a:t>Source: WMO Core Metadata Profile v1-2 Guidance Documentation v0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37FF5-7D73-49E8-842D-32C2D4A9FA06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46040" y="1413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d4b9b"/>
                </a:solidFill>
                <a:latin typeface="Arial"/>
                <a:ea typeface="Microsoft YaHei"/>
              </a:rPr>
              <a:t>Supermarket with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"/>
          <p:cNvSpPr/>
          <p:nvPr/>
        </p:nvSpPr>
        <p:spPr>
          <a:xfrm>
            <a:off x="395280" y="6237360"/>
            <a:ext cx="822960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800" spc="-1" strike="noStrike">
                <a:solidFill>
                  <a:srgbClr val="2d4b9b"/>
                </a:solidFill>
                <a:latin typeface="Arial"/>
                <a:ea typeface="Microsoft YaHei"/>
              </a:rPr>
              <a:t>Source: WMO Core Metadata Profile v1-2 Guidance Documentation v0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996840" y="1812960"/>
            <a:ext cx="7150320" cy="44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BDA66-E13D-4F63-B8E8-26A761748E06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VolC1 and DAR metadata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120" y="4220640"/>
            <a:ext cx="426852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C1: One line per bulle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 Metadata: One XML file per bulletin ~ 20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1871640"/>
            <a:ext cx="7956720" cy="1871640"/>
          </a:xfrm>
          <a:prstGeom prst="flowChartPunchedTape">
            <a:avLst/>
          </a:prstGeom>
          <a:solidFill>
            <a:srgbClr val="e6e6e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NORRKOPING","LATVIA","RIGA","11/06/2008","PACH40","EVRR","HDF5","H+00,H+10,H+20,H+30,H+40,H+50",,"RADAR DATA FROM RIGA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NORRKOPING","NORWAY","OSLO","11/08/2011","IUPD36","ENMI","FM 94-XII BUFR","H+00,H+15,H+30,H+45",,"RADAR WIND PROFILE DATA OF ANDOYA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NORRKOPING","NORWAY","OSLO","11/08/2011","IUPD37","ENMI","FM 94-XII BUFR","H+00,H+15,H+30,H+45",,"RADAR WIND PROFILE DATA OF HASVI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NORRKOPING","NORWAY","OSLO","11/08/2011","IUPD38","ENMI","FM 94-XII BUFR","H+00,H+15,H+30,H+45",,"RADAR WIND PROFILE DATA OF STA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NORRKOPING","NORWAY","OSLO","11/08/2011","IUPD39","ENMI","FM 94-XII BUFR","H+00,H+15,H+30,H+45",,"RADAR WIND PROFILE DATA OF HURUM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SimSun"/>
              </a:rPr>
              <a:t>"6","OFFENBACH","GERMANY","OFFENBACH","06/07/2007","IUPD40","EDZW","FM 94-XIII","AS REQUIRED","10204","SINGLE RADAR VERTICAL 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427640" y="1989000"/>
            <a:ext cx="4518000" cy="429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BD01F-D71F-4E2D-A87F-E57F5B6261D5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46040" y="1413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d4b9b"/>
                </a:solidFill>
                <a:latin typeface="Arial"/>
                <a:ea typeface="Microsoft YaHei"/>
              </a:rPr>
              <a:t>WMO-Core-Metadata-Profile: Minimum Rec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68360" y="2066760"/>
            <a:ext cx="7397640" cy="36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27F28-E5F2-4BE7-AD02-A832BC05734A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686800" cy="544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113EE-C722-424B-9634-648BCF00ADA7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85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4b9b"/>
                </a:solidFill>
                <a:latin typeface="Arial"/>
              </a:rPr>
              <a:t>Metadata record types &amp; associated datasets</a:t>
            </a:r>
            <a:endParaRPr b="1" lang="en-US" sz="2000" spc="-1" strike="noStrike">
              <a:solidFill>
                <a:srgbClr val="2d4b9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85672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adata Recor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scribes a dataset of bulletins which are stored in the 24-hour cache of the GIS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metadata recor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equivalent (although more informative) to a record in WMO vol C1 &amp; describes th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ntents of this type of bulletin; for example SYNOPS from several observation stations; including MLO (Mauna Loa, Hawaii)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d4b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adata recor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escribes a long-term climate record from station MLO which is comprised of a collection of SYNOPTIC observations from, say, 1954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C1382-BC39-49B9-BD28-8DCFBD8E0391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09:57:45Z</dcterms:created>
  <dc:creator>Administrator</dc:creator>
  <dc:description/>
  <dc:language>en-US</dc:language>
  <cp:lastModifiedBy>Markus Heene</cp:lastModifiedBy>
  <cp:lastPrinted>2006-12-13T10:14:45Z</cp:lastPrinted>
  <dcterms:modified xsi:type="dcterms:W3CDTF">2012-02-01T16:53:32Z</dcterms:modified>
  <cp:revision>264</cp:revision>
  <dc:subject/>
  <dc:title>Folie 1</dc:title>
</cp:coreProperties>
</file>